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04E-90A1-4EB1-9C0D-9136CF0F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3A9E823-74E8-467B-85C3-1C51F5C40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, not a student solu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10B-F366-4C98-BD99-3F950623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059-AB4C-4E80-BC60-AE3B8E6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EE2-6AA4-4A3C-8289-762CE180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6E9-A4D5-4FF0-9CA4-C7A96C1D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3DB-C2D4-431C-97BA-89D2A676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A384-8023-4A0B-AD50-D92C8EEC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4B6C-8C2D-46DC-A60D-4A704A5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658D-1484-4407-A94B-44FCD17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A0C7-3860-487D-8311-6CC26BA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9268-3831-4791-BB96-9AD0212E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D01-521F-4788-BADF-6136BFF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80A-0321-4BD3-A514-3E4E139D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084-694B-48D5-83B4-69840D1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814-BA87-4921-AB16-2F519D4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688-5D39-48B4-97CD-DB2D4D0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784-9C83-4C1D-8A67-6F90ED14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B069-CAA0-471C-A7A6-F35A19D3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16B-5A01-4308-9BD3-4C2E488D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D41-44EA-4061-B477-91E08F5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181-3620-4CDC-88BA-1654BC2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A3B-2A20-429E-8491-4C30957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3D1-C990-4990-8CF0-6CCE2A1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5A8-CBA5-4F2E-A011-1BFA491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C77-4ECA-4836-B52F-864B078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B6D-4DE4-4CA2-AFD6-9BB44B6FCF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F39-7F2A-41D2-A0A7-3E5200F6C3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Grades 7/8 Breakout Session 2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d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verview of coaching mod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sson reconstr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encing the three part less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ing Powerful Questions Templat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1574640"/>
            <a:ext cx="66592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provided curriculum expectations, Big Ideas, lesson goals, and consolidating questions match the lesson components to create two different proportional reasoning less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 prepared to discuss your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role for the next hour:  Experiencing a math lesson while thinking critically about the math lesson design (Big Ideas, expectations, lesson goals, and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representations: Using a variety of tools and strategies represent the proportional number assigned to your group in at least five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ereal bar problem using a variety of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various models and representations allow students to see connections between conce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ic Represen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20120" cy="5213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2743200"/>
            <a:ext cx="7162560" cy="38088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: Completing the Posing Powerful Questions Template as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7T16:05:53Z</dcterms:modified>
  <cp:revision>135</cp:revision>
  <dc:subject/>
  <dc:title>Slide 1</dc:title>
</cp:coreProperties>
</file>